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7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860E-2231-40CC-BBAD-25AC99073743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3D5C-B3E5-49F9-9289-3CB1CB22CC6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0A19-7FB0-49CD-9037-4835F4A647E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A128-E781-475A-9710-4D5F4D34ED3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6BAA-2E8D-4319-A112-605118E09B8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09BF-A11D-4DD2-A721-6F9F00A68D4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5B6E5-7A8A-487B-AA38-74440186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C6963-FD06-474B-890A-252A4AEC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A9580-5C32-4FB0-8933-744FD553B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971D1-E76B-464A-BFDE-BA696E49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18FD-862D-4766-A236-C12C3C2BA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E4E2-26E6-4113-8E47-614C80ED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A717-32EE-411A-971B-3147A556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880A-0DBF-4D0B-A203-36ADD51E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419A-021F-4546-88C2-717CFE0F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4DC5-A5F8-44C7-BA35-44517B9A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C6CA-350A-4850-B8A4-C3BD795F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AF944-81A9-4E6C-BA2B-CC3E23D5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5067-97F1-4DB1-90A2-CD014842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262D-3000-455C-A6B0-3531E4B4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D7FF-9E8B-4113-A3DA-9539EA35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B5F4-0337-44EF-BE9C-2279F3370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9B9E-0ADE-4268-8A5B-2EA6EE3C6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83C8BB-96C8-410E-91E3-42E249D8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3BF197-F34A-4E81-B9E0-AE0A96F9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9E0E5E-FC48-464D-BD4C-D6329E41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24026B-0827-4B67-8BC6-435B48A1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4BADDA-FDC5-4361-8961-36B4F3C0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01388-DA0E-4EF7-89AC-AB04859A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DDA773-12F6-4F1C-B54A-64EF96BE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DB758F-FCF8-473B-826F-AAC7D3C7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926E5D-8497-40C1-9A7C-3A24DAE3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F264B6-07D2-45EC-98D6-F850E7D1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AE9DDB-C645-426B-A348-E63B9267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71FBC4-F08D-4EBD-992D-CDD6D353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389109-76D8-4C12-86C3-8BEEF222B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DB75D-5463-4F26-AE88-5994FF17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AF358-F54F-4E95-811C-4DF891C0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13069-38DF-49A6-84D8-626736FC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4385A-8EC5-4F1B-A1F4-801F4468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E14AC-8E20-4344-8DCE-0DE73C90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6D3EB-C191-4B98-9F21-FCF8B364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FC97-B5D3-4AE9-B427-BB59D0E61C67}" type="slidenum">
              <a:rPr b="0" lang="en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72C6-F91B-4F2E-AF68-BD8EFD0FA40B}" type="slidenum">
              <a:rPr b="0" lang="en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926C-86AE-457F-AF68-6A7737ED854F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almanbaluch@gmail.com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52120" y="1295280"/>
            <a:ext cx="723924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200" spc="-1" strike="noStrike">
                <a:solidFill>
                  <a:srgbClr val="ffffff"/>
                </a:solidFill>
                <a:latin typeface="Arial Black"/>
                <a:ea typeface="DFKai-SB"/>
              </a:rPr>
              <a:t>Seeing Relationship</a:t>
            </a:r>
            <a:r>
              <a:rPr b="1" lang="en-CA" sz="4000" spc="-1" strike="noStrike">
                <a:solidFill>
                  <a:srgbClr val="ffffff"/>
                </a:solidFill>
                <a:latin typeface="Arial Black"/>
                <a:ea typeface="DFKai-SB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952520" y="4266720"/>
            <a:ext cx="4419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man Bin Nae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304920" y="579132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ian, The Children’s Hospital &amp; ICH, Mul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D Scholar, Department of Library &amp; Information Science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he Islamia University of Bahawalpur.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salmanbaluch@g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rrelation 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relationships implying straight line association are visualized with scatter p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linear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points lie close to a straight line, and weak if they are widely scat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rrelation 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: Measures the direction  and strength of the linear relationship between two quantitative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ed by 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no assumption of caus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s a linear association between two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atter pl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The pattern of data is indicative of the type of relationship between your two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 relation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1116000" y="1330200"/>
            <a:ext cx="6912000" cy="55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Object 4"/>
          <p:cNvGraphicFramePr/>
          <p:nvPr/>
        </p:nvGraphicFramePr>
        <p:xfrm>
          <a:off x="755640" y="523800"/>
          <a:ext cx="7812000" cy="633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23800"/>
                    <a:ext cx="7812000" cy="63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gative relation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"/>
          <p:cNvSpPr/>
          <p:nvPr/>
        </p:nvSpPr>
        <p:spPr>
          <a:xfrm>
            <a:off x="1981080" y="27432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1981080" y="571500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50120" y="358128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4039920" y="594360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of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2438280" y="4343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8"/>
          <p:cNvSpPr/>
          <p:nvPr/>
        </p:nvSpPr>
        <p:spPr>
          <a:xfrm>
            <a:off x="2819520" y="3429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335268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3962520" y="3733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36576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358128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3"/>
          <p:cNvSpPr/>
          <p:nvPr/>
        </p:nvSpPr>
        <p:spPr>
          <a:xfrm>
            <a:off x="4191120" y="4038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4"/>
          <p:cNvSpPr/>
          <p:nvPr/>
        </p:nvSpPr>
        <p:spPr>
          <a:xfrm>
            <a:off x="4267080" y="4572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5"/>
          <p:cNvSpPr/>
          <p:nvPr/>
        </p:nvSpPr>
        <p:spPr>
          <a:xfrm>
            <a:off x="4952880" y="4952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6"/>
          <p:cNvSpPr/>
          <p:nvPr/>
        </p:nvSpPr>
        <p:spPr>
          <a:xfrm>
            <a:off x="2286000" y="3429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7"/>
          <p:cNvSpPr/>
          <p:nvPr/>
        </p:nvSpPr>
        <p:spPr>
          <a:xfrm>
            <a:off x="4572000" y="4800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8"/>
          <p:cNvSpPr/>
          <p:nvPr/>
        </p:nvSpPr>
        <p:spPr>
          <a:xfrm>
            <a:off x="4724280" y="4495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9"/>
          <p:cNvSpPr/>
          <p:nvPr/>
        </p:nvSpPr>
        <p:spPr>
          <a:xfrm>
            <a:off x="5257800" y="4724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0"/>
          <p:cNvSpPr/>
          <p:nvPr/>
        </p:nvSpPr>
        <p:spPr>
          <a:xfrm>
            <a:off x="6629400" y="5334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1"/>
          <p:cNvSpPr/>
          <p:nvPr/>
        </p:nvSpPr>
        <p:spPr>
          <a:xfrm>
            <a:off x="5715000" y="4876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22"/>
          <p:cNvSpPr/>
          <p:nvPr/>
        </p:nvSpPr>
        <p:spPr>
          <a:xfrm>
            <a:off x="5486400" y="4572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23"/>
          <p:cNvSpPr/>
          <p:nvPr/>
        </p:nvSpPr>
        <p:spPr>
          <a:xfrm>
            <a:off x="5791320" y="4495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24"/>
          <p:cNvSpPr/>
          <p:nvPr/>
        </p:nvSpPr>
        <p:spPr>
          <a:xfrm>
            <a:off x="5943600" y="5029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25"/>
          <p:cNvSpPr/>
          <p:nvPr/>
        </p:nvSpPr>
        <p:spPr>
          <a:xfrm>
            <a:off x="6629400" y="5105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6"/>
          <p:cNvSpPr/>
          <p:nvPr/>
        </p:nvSpPr>
        <p:spPr>
          <a:xfrm>
            <a:off x="6324480" y="4876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7"/>
          <p:cNvSpPr/>
          <p:nvPr/>
        </p:nvSpPr>
        <p:spPr>
          <a:xfrm>
            <a:off x="2438280" y="3124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28"/>
          <p:cNvSpPr/>
          <p:nvPr/>
        </p:nvSpPr>
        <p:spPr>
          <a:xfrm>
            <a:off x="2590920" y="3809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29"/>
          <p:cNvSpPr/>
          <p:nvPr/>
        </p:nvSpPr>
        <p:spPr>
          <a:xfrm>
            <a:off x="32004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30"/>
          <p:cNvSpPr/>
          <p:nvPr/>
        </p:nvSpPr>
        <p:spPr>
          <a:xfrm>
            <a:off x="41148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31"/>
          <p:cNvSpPr/>
          <p:nvPr/>
        </p:nvSpPr>
        <p:spPr>
          <a:xfrm>
            <a:off x="4876920" y="4114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32"/>
          <p:cNvSpPr/>
          <p:nvPr/>
        </p:nvSpPr>
        <p:spPr>
          <a:xfrm>
            <a:off x="5410080" y="4267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33"/>
          <p:cNvSpPr/>
          <p:nvPr/>
        </p:nvSpPr>
        <p:spPr>
          <a:xfrm>
            <a:off x="289548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34"/>
          <p:cNvSpPr/>
          <p:nvPr/>
        </p:nvSpPr>
        <p:spPr>
          <a:xfrm>
            <a:off x="4419720" y="4191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 re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1600200" y="1638360"/>
            <a:ext cx="59529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Correlation Coeffic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 showing the degree of relation between two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Simple Correlation coefficient </a:t>
            </a:r>
            <a:r>
              <a:rPr b="1" lang="arn-CL" sz="3200" spc="-1" strike="noStrike">
                <a:solidFill>
                  <a:srgbClr val="00007d"/>
                </a:solidFill>
                <a:latin typeface="Arial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lso called Pearson's correlation    or product moment correl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ffici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easures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natu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trengt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two variables of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quantit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y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sig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3600" spc="-1" strike="noStrike">
                <a:solidFill>
                  <a:srgbClr val="ff5050"/>
                </a:solidFill>
                <a:latin typeface="Arial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denotes the nature of   associ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le the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valu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3600" spc="-1" strike="noStrike">
                <a:solidFill>
                  <a:srgbClr val="ff5050"/>
                </a:solidFill>
                <a:latin typeface="Arial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denotes the strength of associ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imple Cor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ultiple cor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rtial Cor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and interpret the simple linear regression equation for a set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assumptions behind regression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ether a regression model is signif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84360" y="691920"/>
            <a:ext cx="79912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sign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v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eans the relation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rect</a:t>
            </a:r>
            <a:r>
              <a:rPr b="0" lang="en-US" sz="3200" spc="-1" strike="noStrike">
                <a:solidFill>
                  <a:srgbClr val="cc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n increase in one variable is associated with an increase in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variable and a decrease in one variable is associated with 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 in the other variabl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if the sign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eans 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verse or indire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 (which means an increase in one variable is associated with a decrease in the othe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20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r ranges between ( -1) and ( 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r denotes the strength of the association as illustrated by the following dia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900000" y="4005360"/>
            <a:ext cx="748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90000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9"/>
          <p:cNvSpPr/>
          <p:nvPr/>
        </p:nvSpPr>
        <p:spPr>
          <a:xfrm>
            <a:off x="838836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0"/>
          <p:cNvSpPr/>
          <p:nvPr/>
        </p:nvSpPr>
        <p:spPr>
          <a:xfrm>
            <a:off x="4484520" y="38768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1"/>
          <p:cNvSpPr/>
          <p:nvPr/>
        </p:nvSpPr>
        <p:spPr>
          <a:xfrm>
            <a:off x="2700360" y="400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2"/>
          <p:cNvSpPr/>
          <p:nvPr/>
        </p:nvSpPr>
        <p:spPr>
          <a:xfrm>
            <a:off x="3564000" y="393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3"/>
          <p:cNvSpPr/>
          <p:nvPr/>
        </p:nvSpPr>
        <p:spPr>
          <a:xfrm>
            <a:off x="1763640" y="393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5"/>
          <p:cNvSpPr/>
          <p:nvPr/>
        </p:nvSpPr>
        <p:spPr>
          <a:xfrm>
            <a:off x="5508720" y="393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6"/>
          <p:cNvSpPr/>
          <p:nvPr/>
        </p:nvSpPr>
        <p:spPr>
          <a:xfrm>
            <a:off x="6934320" y="38098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8"/>
          <p:cNvSpPr/>
          <p:nvPr/>
        </p:nvSpPr>
        <p:spPr>
          <a:xfrm>
            <a:off x="541440" y="4437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9"/>
          <p:cNvSpPr/>
          <p:nvPr/>
        </p:nvSpPr>
        <p:spPr>
          <a:xfrm>
            <a:off x="8202960" y="450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4211640" y="450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3059280" y="4508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1476360" y="4508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.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6477120" y="44956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5"/>
          <p:cNvSpPr/>
          <p:nvPr/>
        </p:nvSpPr>
        <p:spPr>
          <a:xfrm>
            <a:off x="5292720" y="4508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6"/>
          <p:cNvSpPr/>
          <p:nvPr/>
        </p:nvSpPr>
        <p:spPr>
          <a:xfrm>
            <a:off x="533520" y="33526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7"/>
          <p:cNvSpPr/>
          <p:nvPr/>
        </p:nvSpPr>
        <p:spPr>
          <a:xfrm>
            <a:off x="7451640" y="3357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8"/>
          <p:cNvSpPr/>
          <p:nvPr/>
        </p:nvSpPr>
        <p:spPr>
          <a:xfrm>
            <a:off x="1447920" y="33526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9"/>
          <p:cNvSpPr/>
          <p:nvPr/>
        </p:nvSpPr>
        <p:spPr>
          <a:xfrm>
            <a:off x="5796000" y="3357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0"/>
          <p:cNvSpPr/>
          <p:nvPr/>
        </p:nvSpPr>
        <p:spPr>
          <a:xfrm>
            <a:off x="3048120" y="33526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1"/>
          <p:cNvSpPr/>
          <p:nvPr/>
        </p:nvSpPr>
        <p:spPr>
          <a:xfrm>
            <a:off x="4952880" y="33526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2"/>
          <p:cNvSpPr/>
          <p:nvPr/>
        </p:nvSpPr>
        <p:spPr>
          <a:xfrm>
            <a:off x="3708360" y="59500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3"/>
          <p:cNvSpPr/>
          <p:nvPr/>
        </p:nvSpPr>
        <p:spPr>
          <a:xfrm flipV="1">
            <a:off x="4351320" y="55148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4"/>
          <p:cNvSpPr/>
          <p:nvPr/>
        </p:nvSpPr>
        <p:spPr>
          <a:xfrm>
            <a:off x="250920" y="5516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ect 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6"/>
          <p:cNvSpPr/>
          <p:nvPr/>
        </p:nvSpPr>
        <p:spPr>
          <a:xfrm>
            <a:off x="7415280" y="5516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ect 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37"/>
          <p:cNvSpPr/>
          <p:nvPr/>
        </p:nvSpPr>
        <p:spPr>
          <a:xfrm flipV="1">
            <a:off x="755640" y="494136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8"/>
          <p:cNvSpPr/>
          <p:nvPr/>
        </p:nvSpPr>
        <p:spPr>
          <a:xfrm flipV="1">
            <a:off x="8317080" y="50371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9"/>
          <p:cNvSpPr/>
          <p:nvPr/>
        </p:nvSpPr>
        <p:spPr>
          <a:xfrm>
            <a:off x="4788000" y="5084640"/>
            <a:ext cx="3313080" cy="358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0"/>
          <p:cNvSpPr/>
          <p:nvPr/>
        </p:nvSpPr>
        <p:spPr>
          <a:xfrm>
            <a:off x="826920" y="5013360"/>
            <a:ext cx="3384720" cy="358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 Zero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eans no association or correlation between the two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 &lt; r &lt; 0.2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weak corre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.25 ≤ r &lt; 0.7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intermediate corre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.75 ≤ r &lt; 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strong corre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 = 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perfect corre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ample of 6 children was selected, data about their age in years and weight in kilograms was recorded as shown in the following table . It is required to find the correlation between age and we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258920" y="2781360"/>
          <a:ext cx="6049800" cy="3841560"/>
        </p:xfrm>
        <a:graphic>
          <a:graphicData uri="http://schemas.openxmlformats.org/drawingml/2006/table">
            <a:tbl>
              <a:tblPr/>
              <a:tblGrid>
                <a:gridCol w="1704960"/>
                <a:gridCol w="2092320"/>
                <a:gridCol w="2252520"/>
              </a:tblGrid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erial 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ge (year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Weight (K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533520" y="914040"/>
            <a:ext cx="84247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These 2 variables are of the quantitative type, one variable (Age) is called the independent and denoted as (X) variable and the other (weight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is called the dependent and denoted as (Y) variables to find the relation between age and weight compute the simple correlation coefficien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0.7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direct corre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0" y="39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Spearman Rank Correlation Coefficient (r</a:t>
            </a:r>
            <a:r>
              <a:rPr b="1" lang="arn-CL" sz="2800" spc="-1" strike="noStrike" baseline="-25000">
                <a:solidFill>
                  <a:srgbClr val="00007d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 non-parametric measure of correl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cedure makes use of the two sets of ranks that may be assigned to the sample values of x and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rman Rank correlation coefficient could be computed in the following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variables are quantit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variables are qualitative ord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One variable is quantitative and the other is qualitative ordin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3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6877080" y="4437000"/>
            <a:ext cx="2266920" cy="20372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0" y="6453360"/>
            <a:ext cx="9144000" cy="3664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Regression Mode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al technique for assessing the relationship between dependent and one or more independent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lationship between two variables is characterized by how they vary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pairs of X and Y variables, regression analysis measures the direction (positive and negative) and the rate of change in Y as X changes (Slope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Regress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equate for predicting the value of Y, given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appropriate for assessing the strength of an association between two or more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al association assum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Simple regress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ression equation and line represent the simple linear equation and describe the shape of the relationship between the vari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ression line is the line drawn through scatter plot that test the fitness of the regression model like the coefficient of determination in th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-30528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Corre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alysis is used to measure strength of the association (linear relationship) between two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5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concerned with strength of the relationshi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5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ausal effect is impl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5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scatter pl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r scatter diagram) is used to show the relationship between two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512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Regression Analys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ression: technique concerned with predicting some variables by knowing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of predicting variable Y using variable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a variable (x) to predict some outcome variable (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s you how values in y change as a function of changes in values of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Correlation and Regr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afee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Correlation describes the strength of a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linear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relationship between two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fee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ight 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fee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Regre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lls us how to draw the straight line described by the corre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urs studying and gr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1187280" y="1387440"/>
            <a:ext cx="636120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Regressing grades on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826920" y="847800"/>
            <a:ext cx="7274160" cy="451152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4"/>
          <p:cNvSpPr/>
          <p:nvPr/>
        </p:nvSpPr>
        <p:spPr>
          <a:xfrm>
            <a:off x="533520" y="5373720"/>
            <a:ext cx="8610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ed final grade in class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9.95 + 3.17*(number of hours you study per we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Multiple Regression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regression analysis is a straightforward extension of simple regression analysis which allows more than one independent vari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Basic Assum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ity – The relationship between Y and X is linear (straight line relationsh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duals are independent and normally distrib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sedasticity - The variance of the residuals is equal for all 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measurement error on X (impractical assumption) - &lt; 10% is assumed adequate measurement e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Practical Sess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Simple &amp; Multiple Cor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57200" y="1523880"/>
            <a:ext cx="8458200" cy="16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Arial"/>
              </a:rPr>
              <a:t>Simple correlation 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measures the degree of association between two variabl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Arial"/>
              </a:rPr>
              <a:t>Multiple correlation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 measures the degree of association between a group of variables and dependent variabl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2"/>
          <p:cNvGraphicFramePr/>
          <p:nvPr/>
        </p:nvGraphicFramePr>
        <p:xfrm>
          <a:off x="457200" y="3429000"/>
          <a:ext cx="8229600" cy="31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429000"/>
                    <a:ext cx="8229600" cy="31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Multiple Cor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57200" y="16765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Multiple correla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 measures the degree of association between a group of variables and dependent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9"/>
          <p:cNvGraphicFramePr/>
          <p:nvPr/>
        </p:nvGraphicFramePr>
        <p:xfrm>
          <a:off x="380880" y="3200400"/>
          <a:ext cx="8229600" cy="318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200400"/>
                    <a:ext cx="822960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Partial Cor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457200" y="16765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Partial correla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 measures the degree of association between two variables when controlling for the effect of the third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6"/>
          <p:cNvGraphicFramePr/>
          <p:nvPr/>
        </p:nvGraphicFramePr>
        <p:xfrm>
          <a:off x="609480" y="3200400"/>
          <a:ext cx="7453440" cy="33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745344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Pearson and Spearman Cor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easure the degree of association / relationship between 2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alue between -1 … +1, with 0 indicating no a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pearman is more applicable for ordinal data, non-linear relationships and data with out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Pearson and Spearman Correlations (contin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4095720" cy="4800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2"/>
          <a:stretch/>
        </p:blipFill>
        <p:spPr>
          <a:xfrm>
            <a:off x="247680" y="1828800"/>
            <a:ext cx="4095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terpreting Correlation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gative strong association was found between income and stress level,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= -.79,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&lt; .001,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= 63. Higher income is associated with lower st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reativity has a strong impact on winning a competition, with higher level of creativity being associated with higher final rank,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CA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= -.51,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&lt; .001,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= 6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come and age combined are strong predictors of stress and account for 98.2% of variability in stress,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multiple R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= .99,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&lt; .0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4:34:17Z</dcterms:created>
  <dc:creator>Anton</dc:creator>
  <dc:description/>
  <dc:language>en-US</dc:language>
  <cp:lastModifiedBy>Salman</cp:lastModifiedBy>
  <dcterms:modified xsi:type="dcterms:W3CDTF">2014-06-23T17:44:01Z</dcterms:modified>
  <cp:revision>95</cp:revision>
  <dc:subject/>
  <dc:title>Slide 1</dc:title>
</cp:coreProperties>
</file>